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20.jpeg" ContentType="image/jpeg"/>
  <Override PartName="/ppt/media/image7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11.png" ContentType="image/png"/>
  <Override PartName="/ppt/media/image19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A072B-A0E4-486A-ADCA-ABCD81D75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CC8F-3FEE-4BD5-851E-E23F4225C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260-68F5-4047-B4F0-97F550AB8D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EAEC-290C-494F-8D4A-E507726B0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4A7C-4A06-4B0D-AA41-843F911E0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1E1E5-2D4A-46A9-8A5B-F7568F45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43AA2-52E8-4FFD-A9C2-4EECDFB284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CE1A-3D4A-42DC-B8DD-74B7E48E4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7B02-8980-41D4-A9BB-98053F298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4821-3C82-4C1C-95E0-295819A41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990C-4C70-431B-9F3B-19329D5AC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55F0F-9F48-4F4A-86E1-8113E55BB6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7A17A-3A82-4D14-ADCA-D563DA10D7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2362320"/>
            <a:ext cx="7543800" cy="99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aramond"/>
              </a:rPr>
              <a:t>Enter the Addr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aramond"/>
              </a:rPr>
              <a:t>http://eprocure.isro.gov.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flipH="1" flipV="1">
            <a:off x="1143000" y="457200"/>
            <a:ext cx="990720" cy="1905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0" y="6324480"/>
            <a:ext cx="9144000" cy="5335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aramond"/>
              </a:rPr>
              <a:t>Click on appropriate ‘Main Category Item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62720" y="5867280"/>
            <a:ext cx="838080" cy="30492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685800" y="6172200"/>
            <a:ext cx="7467480" cy="6858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aramond"/>
              </a:rPr>
              <a:t>Select the appropriate ‘Sub Category Item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733920" y="4876920"/>
            <a:ext cx="609480" cy="45720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3352680" y="5257800"/>
            <a:ext cx="457200" cy="9144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685800" y="4876920"/>
            <a:ext cx="7543800" cy="99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aramond"/>
              </a:rPr>
              <a:t>Click on Sa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3048120" y="6095880"/>
            <a:ext cx="990360" cy="45720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3505320" y="5866920"/>
            <a:ext cx="152280" cy="2286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685800" y="5943600"/>
            <a:ext cx="7543800" cy="83808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aramond"/>
              </a:rPr>
              <a:t>These are the Items pending for Appro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251400" y="4952880"/>
            <a:ext cx="1673280" cy="61272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685800" y="4876920"/>
            <a:ext cx="7543800" cy="9903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aramond"/>
              </a:rPr>
              <a:t>Click on Back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886200" y="6019920"/>
            <a:ext cx="762120" cy="38088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"/>
          <p:cNvSpPr/>
          <p:nvPr/>
        </p:nvSpPr>
        <p:spPr>
          <a:xfrm>
            <a:off x="685800" y="6172200"/>
            <a:ext cx="7772400" cy="6858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Garamond"/>
              </a:rPr>
              <a:t>Click on Done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Garamond"/>
              </a:rPr>
              <a:t>to complete the Item Empanelment Proces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429000" y="3048120"/>
            <a:ext cx="914400" cy="38088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666880" y="3429000"/>
            <a:ext cx="1067040" cy="27432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0" y="6095880"/>
            <a:ext cx="9144000" cy="7621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aramond"/>
              </a:rPr>
              <a:t>The Empanelment details are intimated through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8160" y="533520"/>
            <a:ext cx="33145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228600" y="6172200"/>
            <a:ext cx="8229600" cy="6858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Garamond"/>
              </a:rPr>
              <a:t>Your Request for Empanelment is Under Proces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3333cc"/>
                </a:solidFill>
                <a:latin typeface="Garamond"/>
              </a:rPr>
              <a:t>Approval shall be Intimates through e-mail</a:t>
            </a:r>
            <a:r>
              <a:rPr b="1" lang="en-US" sz="2800" spc="-1" strike="noStrike">
                <a:solidFill>
                  <a:srgbClr val="3333cc"/>
                </a:solidFill>
                <a:latin typeface="Garamond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52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685800" y="6324480"/>
            <a:ext cx="7543800" cy="5335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aramond"/>
              </a:rPr>
              <a:t>Approval details are intimated through e-ma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762120" y="6172200"/>
            <a:ext cx="7619760" cy="68580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Garamond"/>
              </a:rPr>
              <a:t>These are the Items approved / pending by the Appro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105520" y="5486400"/>
            <a:ext cx="914400" cy="38088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757080" y="3048120"/>
            <a:ext cx="987480" cy="37944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5638680"/>
            <a:ext cx="7543800" cy="990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aramond"/>
              </a:rPr>
              <a:t>Click on Login after filling your User 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71600" y="3429000"/>
            <a:ext cx="762120" cy="22096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685800" y="5638680"/>
            <a:ext cx="7543800" cy="990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aramond"/>
              </a:rPr>
              <a:t>Click on Select Certificat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3733920"/>
            <a:ext cx="1295640" cy="45720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590920" y="4191120"/>
            <a:ext cx="838080" cy="14475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685800" y="5638680"/>
            <a:ext cx="7543800" cy="990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aramond"/>
              </a:rPr>
              <a:t>Click on OK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143000" y="2362320"/>
            <a:ext cx="838080" cy="38088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98760" y="2741760"/>
            <a:ext cx="1298520" cy="289692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685800" y="5638680"/>
            <a:ext cx="7543800" cy="990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aramond"/>
              </a:rPr>
              <a:t>Click on CENTRES/UNIT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3520" y="2133720"/>
            <a:ext cx="1066680" cy="38088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066680" y="2514600"/>
            <a:ext cx="1828800" cy="31240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685800" y="5638680"/>
            <a:ext cx="8001000" cy="990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aramond"/>
              </a:rPr>
              <a:t>Click on the appropriate Centre to Empan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3048120"/>
            <a:ext cx="1600200" cy="30456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1142640" y="3352680"/>
            <a:ext cx="304920" cy="22860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685800" y="5638680"/>
            <a:ext cx="7543800" cy="990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aramond"/>
              </a:rPr>
              <a:t>Click on Item Empanelme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-76320" y="3429000"/>
            <a:ext cx="990720" cy="53352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09480" y="3962520"/>
            <a:ext cx="1295640" cy="16761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74388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/>
          <p:nvPr/>
        </p:nvSpPr>
        <p:spPr>
          <a:xfrm>
            <a:off x="685800" y="5638680"/>
            <a:ext cx="7543800" cy="990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aramond"/>
              </a:rPr>
              <a:t>Click on Item Empan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95280" y="4038480"/>
            <a:ext cx="1143000" cy="53352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828800" y="4572000"/>
            <a:ext cx="533520" cy="106668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685800" y="5638680"/>
            <a:ext cx="7543800" cy="99072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Garamond"/>
              </a:rPr>
              <a:t>Click on Go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733920" y="3276720"/>
            <a:ext cx="914400" cy="45720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3733920" y="3733920"/>
            <a:ext cx="457200" cy="190476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29T08:21:05Z</dcterms:created>
  <dc:creator>Ajan Kumar</dc:creator>
  <dc:description/>
  <dc:language>en-US</dc:language>
  <cp:lastModifiedBy>USER</cp:lastModifiedBy>
  <dcterms:modified xsi:type="dcterms:W3CDTF">2010-08-26T11:07:30Z</dcterms:modified>
  <cp:revision>165</cp:revision>
  <dc:subject/>
  <dc:title>PowerPoint Presentation</dc:title>
</cp:coreProperties>
</file>